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dt" idx="13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move the slide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ftr" idx="14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 type="sldNum" idx="15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E7422AD-F30C-4B7E-BEB9-4220DF36C8C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C8DB4F4-4F1B-49A7-8CE1-87B6EA5DAB8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CE5AC56-00F9-4E28-8EF8-F517FE2BC6F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66824B4-DAD0-4A7F-B046-2ADBB13BBE6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CF1B7A7-9D27-4CED-AF84-3BF70CE12E5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8FBD43A-3EE1-41B8-B694-D72E62BBEF4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F53EF99-F48A-466D-A90C-1644D9A0C69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CF8CACD-1BF0-49C2-84B1-8137E26B72C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EDB3A77-04DB-4B2D-8180-2AA08456C3F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7937322-77D2-4446-AC6F-906EC6F3826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97BE200-EA2A-4387-B051-3EB34AD08C5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142BC78-ED90-4CA8-AFE3-83F5961A3B8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C6859B9-C657-4B2D-A04F-2722CFBA7D0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EF159D1-B5E7-4778-8DCA-7BA5E2E50F3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649D-B979-454B-9DDB-E8FC21725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E6F9-5147-4876-876C-FCEAC981E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3864-E3B7-450F-BFFB-43F6DB39E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F1C0-CC76-405F-A79A-4BCB61A20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567BE-07F3-4E4F-AFC2-BDB33868B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A3072-0FDC-41E6-9C7D-4F24DA1C7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5857D-A141-4217-BEC4-7640D9CC8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98761-D884-4E04-AC99-CDDC5AE94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F7909-3E43-4215-83F3-61C3ADAD4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85F4E-427E-44F2-A109-B5F128358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C1852-E157-472D-838D-92E20A7AA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4DB9-C868-4499-9387-BD8E943F5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8BE70-5254-43F1-962C-31CFB4FB8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34056-758F-4C7D-93E6-7EC87D83A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1CCF9-A6CB-42F9-BAB2-9B33FA518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40A2C-1AC2-4D18-B0C9-1E8D1EC49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9DFAD-2463-4AEE-B077-DF5638D87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3750E1-0FAC-4EAF-AAF2-3EF6FE9AB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5B9BD7-E0D5-4B98-9B4B-2DE0A59EB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85A2EF-1838-4575-A076-6FB84239E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B7068C-E30C-4693-88A0-025481B64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856099-8003-4658-A0F4-1571931B2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6454-B77A-49A0-9FB4-FD3F36322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E47A9E-BD7B-45C4-995F-5DE34587B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E8C519-CE5C-4D23-AC95-12F675C24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189805-1E38-4D18-8ECE-071B71498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5C5508-5199-49A4-9EE1-E71FD3971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E8077C-C399-4B52-B343-4C1A3AED1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E9B082-4ED0-44B9-8F6C-1121387B2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2548AA-CC27-434F-A453-4B39C97A6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FF1826-2075-4546-83E0-8EA963A22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C2EAD6-D30E-4505-8E5A-E9CEE2E57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3A8B2E-93EE-43D7-9EF0-A37AFD8E2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C32F-2284-4D7E-B533-ECF229325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FD9EEE-33F7-46D3-B8E5-94B031A1B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0331AD-2EFE-49DE-B07A-696A94D1E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16F6BD-42CE-4BCC-931A-DAFEA6467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9721DE-658B-4C80-B111-99A8F0E16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209441-53EB-4EE1-8FEA-8427B729E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5196E1-3A2B-4A48-94F6-208C15B75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2BDB7C-EAF9-4D8A-B032-0FBAEE6DD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6E0A88-DFED-4E3E-B664-6F678553A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263EE1-F0EF-41C1-8E76-16A82D911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9ACC-4F31-4BB4-BD82-C96CF8D9B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5711-F84F-4E9F-B7FE-B15E7BE54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9C0E-6178-40F7-8CF3-ACABAE6A2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168E-AD8B-43E7-999E-C20A6B39E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C4C7-8795-4888-AFC0-A826D731F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7AB90-E7BB-4411-ADFA-D38BC0DB8519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60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7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102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91" name="Rectangle 11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92" name="Rectangle 116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95" name="Rectangle 100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96" name="Rectangle 101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</p:grpSp>
          <p:sp>
            <p:nvSpPr>
              <p:cNvPr id="97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98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99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sp>
          <p:nvSpPr>
            <p:cNvPr id="100" name="Freeform 62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01" name="Freeform 63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02" name="Freeform 64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03" name="Freeform 66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04" name="Freeform 67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05" name="Hexagon 68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06" name="Hexagon 7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07" name="Hexagon 72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08" name="Hexagon 73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09" name="Hexagon 74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10" name="Freeform 75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11" name="Hexagon 76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12" name="Hexagon 77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13" name="Hexagon 78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14" name="Hexagon 79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15" name="Hexagon 80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16" name="Hexagon 81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17" name="Hexagon 82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18" name="Hexagon 83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19" name="Hexagon 84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20" name="Freeform 85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21" name="Freeform 86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sp>
        <p:nvSpPr>
          <p:cNvPr id="122" name="Rectangle 120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Rectangle 121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Rectangle 122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Rectangle 123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2795B-6DD7-4D60-8091-0B0FEA93810A}" type="slidenum">
              <a:rPr b="0" lang="en-US" sz="1200" spc="-1" strike="noStrike">
                <a:solidFill>
                  <a:srgbClr val="94c6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60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168" name="Group 61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117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102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75" name="Rectangle 11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76" name="Rectangle 116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79" name="Rectangle 100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180" name="Rectangle 101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</p:grpSp>
          <p:sp>
            <p:nvSpPr>
              <p:cNvPr id="181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82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83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sp>
          <p:nvSpPr>
            <p:cNvPr id="184" name="Freeform 62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85" name="Freeform 63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86" name="Freeform 64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87" name="Freeform 66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88" name="Freeform 67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89" name="Hexagon 68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90" name="Hexagon 7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91" name="Hexagon 72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92" name="Hexagon 73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93" name="Hexagon 74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94" name="Freeform 75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95" name="Hexagon 76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96" name="Hexagon 77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97" name="Hexagon 78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98" name="Hexagon 79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99" name="Hexagon 80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00" name="Hexagon 81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01" name="Hexagon 82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02" name="Hexagon 83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03" name="Hexagon 84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04" name="Freeform 85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05" name="Freeform 86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sp>
        <p:nvSpPr>
          <p:cNvPr id="206" name="Rectangle 120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Rectangle 121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Rectangle 122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Rectangle 123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26B3D-33D1-4BB4-A094-534D75C89F8C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60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52" name="Group 61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117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102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59" name="Rectangle 11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60" name="Rectangle 116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63" name="Rectangle 100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  <p:sp>
              <p:nvSpPr>
                <p:cNvPr id="264" name="Rectangle 101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 Black"/>
                  </a:endParaRPr>
                </a:p>
              </p:txBody>
            </p:sp>
          </p:grpSp>
          <p:sp>
            <p:nvSpPr>
              <p:cNvPr id="265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266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267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sp>
          <p:nvSpPr>
            <p:cNvPr id="268" name="Freeform 62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69" name="Freeform 63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70" name="Freeform 64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71" name="Freeform 66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72" name="Freeform 67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73" name="Hexagon 68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74" name="Hexagon 7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75" name="Hexagon 72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76" name="Hexagon 73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77" name="Hexagon 74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78" name="Freeform 75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79" name="Hexagon 76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80" name="Hexagon 77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81" name="Hexagon 78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82" name="Hexagon 79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83" name="Hexagon 80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84" name="Hexagon 81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85" name="Hexagon 82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86" name="Hexagon 83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87" name="Hexagon 84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88" name="Freeform 85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89" name="Freeform 86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sp>
        <p:nvSpPr>
          <p:cNvPr id="290" name="Rectangle 120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1" name="Rectangle 121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2" name="Rectangle 122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3" name="Rectangle 123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49F0A-0BB2-4E07-8A69-C715FEA8CE0E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647960" y="1676160"/>
            <a:ext cx="3313080" cy="170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4c600"/>
                </a:solidFill>
                <a:latin typeface="Arial Black"/>
              </a:rPr>
              <a:t>Unit 4 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6705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4242"/>
                </a:solidFill>
                <a:latin typeface="Arial Black"/>
              </a:rPr>
              <a:t>Dr. &amp; Mrs. Vandertrampp au Passé Composé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151920" y="1143000"/>
            <a:ext cx="89917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000" spc="-1" strike="noStrike">
                <a:solidFill>
                  <a:srgbClr val="3e3d2d"/>
                </a:solidFill>
                <a:latin typeface="Arial Black"/>
              </a:rPr>
              <a:t>7. Elle a bu un coca</a:t>
            </a:r>
            <a:endParaRPr b="0" lang="en-US" sz="4000" spc="-1" strike="noStrike">
              <a:solidFill>
                <a:srgbClr val="3e3d2d"/>
              </a:solidFill>
              <a:latin typeface="Century Gothic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000" spc="-1" strike="noStrike">
                <a:solidFill>
                  <a:srgbClr val="3e3d2d"/>
                </a:solidFill>
                <a:latin typeface="Arial Black"/>
              </a:rPr>
              <a:t>8. Et elle a mangé des escargots.</a:t>
            </a:r>
            <a:endParaRPr b="0" lang="en-US" sz="4000" spc="-1" strike="noStrike">
              <a:solidFill>
                <a:srgbClr val="3e3d2d"/>
              </a:solidFill>
              <a:latin typeface="Century Gothic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000" spc="-1" strike="noStrike">
                <a:solidFill>
                  <a:srgbClr val="3e3d2d"/>
                </a:solidFill>
                <a:latin typeface="Arial Black"/>
              </a:rPr>
              <a:t>9. Mais elle est morte</a:t>
            </a:r>
            <a:endParaRPr b="0" lang="en-US" sz="4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151920" y="1143000"/>
            <a:ext cx="89917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000" spc="-1" strike="noStrike">
                <a:solidFill>
                  <a:srgbClr val="3e3d2d"/>
                </a:solidFill>
                <a:latin typeface="Arial Black"/>
              </a:rPr>
              <a:t>10.  Nous ____ (être) tristes.</a:t>
            </a:r>
            <a:endParaRPr b="0" lang="en-US" sz="4000" spc="-1" strike="noStrike">
              <a:solidFill>
                <a:srgbClr val="3e3d2d"/>
              </a:solidFill>
              <a:latin typeface="Century Gothic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000" spc="-1" strike="noStrike">
                <a:solidFill>
                  <a:srgbClr val="3e3d2d"/>
                </a:solidFill>
                <a:latin typeface="Arial Black"/>
              </a:rPr>
              <a:t>11.  Nous  ____(rentrer) chez nous.</a:t>
            </a:r>
            <a:endParaRPr b="0" lang="en-US" sz="4000" spc="-1" strike="noStrike">
              <a:solidFill>
                <a:srgbClr val="3e3d2d"/>
              </a:solidFill>
              <a:latin typeface="Century Gothic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000" spc="-1" strike="noStrike">
                <a:solidFill>
                  <a:srgbClr val="3e3d2d"/>
                </a:solidFill>
                <a:latin typeface="Arial Black"/>
              </a:rPr>
              <a:t>12. Mais nous _____(dormir)</a:t>
            </a:r>
            <a:endParaRPr b="0" lang="en-US" sz="4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>
            <a:off x="151920" y="1143000"/>
            <a:ext cx="89917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000" spc="-1" strike="noStrike">
                <a:solidFill>
                  <a:srgbClr val="3e3d2d"/>
                </a:solidFill>
                <a:latin typeface="Arial Black"/>
              </a:rPr>
              <a:t>10.  Nous avons été tristes.</a:t>
            </a:r>
            <a:endParaRPr b="0" lang="en-US" sz="4000" spc="-1" strike="noStrike">
              <a:solidFill>
                <a:srgbClr val="3e3d2d"/>
              </a:solidFill>
              <a:latin typeface="Century Gothic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000" spc="-1" strike="noStrike">
                <a:solidFill>
                  <a:srgbClr val="3e3d2d"/>
                </a:solidFill>
                <a:latin typeface="Arial Black"/>
              </a:rPr>
              <a:t>11.  Nous  sommes rentré(e)s chez nous.</a:t>
            </a:r>
            <a:endParaRPr b="0" lang="en-US" sz="4000" spc="-1" strike="noStrike">
              <a:solidFill>
                <a:srgbClr val="3e3d2d"/>
              </a:solidFill>
              <a:latin typeface="Century Gothic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000" spc="-1" strike="noStrike">
                <a:solidFill>
                  <a:srgbClr val="3e3d2d"/>
                </a:solidFill>
                <a:latin typeface="Arial Black"/>
              </a:rPr>
              <a:t>12. Mais nous avons dormi.</a:t>
            </a:r>
            <a:endParaRPr b="0" lang="en-US" sz="4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-381240" y="304560"/>
            <a:ext cx="98298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 algn="ctr">
              <a:lnSpc>
                <a:spcPct val="100000"/>
              </a:lnSpc>
              <a:spcBef>
                <a:spcPts val="83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3600" spc="-1" strike="noStrike">
                <a:solidFill>
                  <a:srgbClr val="3e3d2d"/>
                </a:solidFill>
                <a:latin typeface="Arial Black"/>
              </a:rPr>
              <a:t>FIN!</a:t>
            </a:r>
            <a:endParaRPr b="0" lang="en-US" sz="336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6" dur="5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Arial Unicode MS"/>
              </a:rPr>
              <a:t>Directions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456840" y="16002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100000"/>
              </a:lnSpc>
              <a:spcBef>
                <a:spcPts val="10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e3d2d"/>
                </a:solidFill>
                <a:latin typeface="Arial Black"/>
              </a:rPr>
              <a:t>Sortez les tablettes.</a:t>
            </a:r>
            <a:endParaRPr b="0" lang="en-US" sz="4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10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e3d2d"/>
                </a:solidFill>
                <a:latin typeface="Arial Black"/>
              </a:rPr>
              <a:t>Je vais vous montrer un verbe et un sujet. S.V.P., conjuguez le verbe correctement au passé composé.</a:t>
            </a:r>
            <a:endParaRPr b="0" lang="en-US" sz="4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Arial Unicode MS"/>
              </a:rPr>
              <a:t>Directions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228240" y="1599840"/>
            <a:ext cx="8915400" cy="431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 algn="ctr">
              <a:lnSpc>
                <a:spcPct val="100000"/>
              </a:lnSpc>
              <a:spcBef>
                <a:spcPts val="2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600" spc="-1" strike="noStrike">
                <a:solidFill>
                  <a:srgbClr val="3e3d2d"/>
                </a:solidFill>
                <a:latin typeface="Arial Black"/>
              </a:rPr>
              <a:t>VOUS AVEZ COMPRIS?!</a:t>
            </a:r>
            <a:endParaRPr b="0" lang="en-US" sz="106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Arial Unicode MS"/>
              </a:rPr>
              <a:t>Directions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228240" y="1599840"/>
            <a:ext cx="8915400" cy="431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 algn="ctr">
              <a:lnSpc>
                <a:spcPct val="100000"/>
              </a:lnSpc>
              <a:spcBef>
                <a:spcPts val="2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600" spc="-1" strike="noStrike">
                <a:solidFill>
                  <a:srgbClr val="3e3d2d"/>
                </a:solidFill>
                <a:latin typeface="Arial Black"/>
              </a:rPr>
              <a:t>ALLONS-Y!</a:t>
            </a:r>
            <a:endParaRPr b="0" lang="en-US" sz="106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151920" y="1143000"/>
            <a:ext cx="89917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94c600"/>
              </a:buClr>
              <a:buSzPct val="76000"/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000" spc="-1" strike="noStrike">
                <a:solidFill>
                  <a:srgbClr val="3e3d2d"/>
                </a:solidFill>
                <a:latin typeface="Arial Black"/>
              </a:rPr>
              <a:t>Madame Ours _____(monter) dans le bus.</a:t>
            </a:r>
            <a:endParaRPr b="0" lang="en-US" sz="4000" spc="-1" strike="noStrike">
              <a:solidFill>
                <a:srgbClr val="3e3d2d"/>
              </a:solidFill>
              <a:latin typeface="Century Gothic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94c600"/>
              </a:buClr>
              <a:buSzPct val="76000"/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000" spc="-1" strike="noStrike">
                <a:solidFill>
                  <a:srgbClr val="3e3d2d"/>
                </a:solidFill>
                <a:latin typeface="Arial Black"/>
              </a:rPr>
              <a:t>Monsieur Ours _____(partir) à Paris</a:t>
            </a:r>
            <a:endParaRPr b="0" lang="en-US" sz="4000" spc="-1" strike="noStrike">
              <a:solidFill>
                <a:srgbClr val="3e3d2d"/>
              </a:solidFill>
              <a:latin typeface="Century Gothic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94c600"/>
              </a:buClr>
              <a:buSzPct val="76000"/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000" spc="-1" strike="noStrike">
                <a:solidFill>
                  <a:srgbClr val="3e3d2d"/>
                </a:solidFill>
                <a:latin typeface="Arial Black"/>
              </a:rPr>
              <a:t>Mademoiselle Ours _____(voir) un film</a:t>
            </a:r>
            <a:endParaRPr b="0" lang="en-US" sz="4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 txBox="1"/>
          <p:nvPr/>
        </p:nvSpPr>
        <p:spPr>
          <a:xfrm>
            <a:off x="151920" y="1143000"/>
            <a:ext cx="89917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94c600"/>
              </a:buClr>
              <a:buSzPct val="76000"/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000" spc="-1" strike="noStrike">
                <a:solidFill>
                  <a:srgbClr val="3e3d2d"/>
                </a:solidFill>
                <a:latin typeface="Arial Black"/>
              </a:rPr>
              <a:t>Madame Ours est montée dans le bus.</a:t>
            </a:r>
            <a:endParaRPr b="0" lang="en-US" sz="4000" spc="-1" strike="noStrike">
              <a:solidFill>
                <a:srgbClr val="3e3d2d"/>
              </a:solidFill>
              <a:latin typeface="Century Gothic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94c600"/>
              </a:buClr>
              <a:buSzPct val="76000"/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000" spc="-1" strike="noStrike">
                <a:solidFill>
                  <a:srgbClr val="3e3d2d"/>
                </a:solidFill>
                <a:latin typeface="Arial Black"/>
              </a:rPr>
              <a:t>Monsieur Ours est parti à Paris</a:t>
            </a:r>
            <a:endParaRPr b="0" lang="en-US" sz="4000" spc="-1" strike="noStrike">
              <a:solidFill>
                <a:srgbClr val="3e3d2d"/>
              </a:solidFill>
              <a:latin typeface="Century Gothic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94c600"/>
              </a:buClr>
              <a:buSzPct val="76000"/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000" spc="-1" strike="noStrike">
                <a:solidFill>
                  <a:srgbClr val="3e3d2d"/>
                </a:solidFill>
                <a:latin typeface="Arial Black"/>
              </a:rPr>
              <a:t>Mademoiselle Ours a vu un film</a:t>
            </a:r>
            <a:endParaRPr b="0" lang="en-US" sz="4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 txBox="1"/>
          <p:nvPr/>
        </p:nvSpPr>
        <p:spPr>
          <a:xfrm>
            <a:off x="151920" y="1143000"/>
            <a:ext cx="89917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000" spc="-1" strike="noStrike">
                <a:solidFill>
                  <a:srgbClr val="3e3d2d"/>
                </a:solidFill>
                <a:latin typeface="Arial Black"/>
              </a:rPr>
              <a:t>4. M et Mme Ours _____(arriver) en retard.</a:t>
            </a:r>
            <a:endParaRPr b="0" lang="en-US" sz="4000" spc="-1" strike="noStrike">
              <a:solidFill>
                <a:srgbClr val="3e3d2d"/>
              </a:solidFill>
              <a:latin typeface="Century Gothic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000" spc="-1" strike="noStrike">
                <a:solidFill>
                  <a:srgbClr val="3e3d2d"/>
                </a:solidFill>
                <a:latin typeface="Arial Black"/>
              </a:rPr>
              <a:t>5. Mais ils ____(entrer) dans le cinéma.</a:t>
            </a:r>
            <a:endParaRPr b="0" lang="en-US" sz="4000" spc="-1" strike="noStrike">
              <a:solidFill>
                <a:srgbClr val="3e3d2d"/>
              </a:solidFill>
              <a:latin typeface="Century Gothic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000" spc="-1" strike="noStrike">
                <a:solidFill>
                  <a:srgbClr val="3e3d2d"/>
                </a:solidFill>
                <a:latin typeface="Arial Black"/>
              </a:rPr>
              <a:t>6. Ils _____(regarder) un film de Britney Spears</a:t>
            </a:r>
            <a:endParaRPr b="0" lang="en-US" sz="4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151920" y="1143000"/>
            <a:ext cx="89917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000" spc="-1" strike="noStrike">
                <a:solidFill>
                  <a:srgbClr val="3e3d2d"/>
                </a:solidFill>
                <a:latin typeface="Arial Black"/>
              </a:rPr>
              <a:t>4. M et Mme Ours sont arrivés en retard.</a:t>
            </a:r>
            <a:endParaRPr b="0" lang="en-US" sz="4000" spc="-1" strike="noStrike">
              <a:solidFill>
                <a:srgbClr val="3e3d2d"/>
              </a:solidFill>
              <a:latin typeface="Century Gothic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000" spc="-1" strike="noStrike">
                <a:solidFill>
                  <a:srgbClr val="3e3d2d"/>
                </a:solidFill>
                <a:latin typeface="Arial Black"/>
              </a:rPr>
              <a:t>5. Mais ils sont entrés dans le cinéma.</a:t>
            </a:r>
            <a:endParaRPr b="0" lang="en-US" sz="4000" spc="-1" strike="noStrike">
              <a:solidFill>
                <a:srgbClr val="3e3d2d"/>
              </a:solidFill>
              <a:latin typeface="Century Gothic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000" spc="-1" strike="noStrike">
                <a:solidFill>
                  <a:srgbClr val="3e3d2d"/>
                </a:solidFill>
                <a:latin typeface="Arial Black"/>
              </a:rPr>
              <a:t>6. Ils ont regardé un film de Britney Spears</a:t>
            </a:r>
            <a:endParaRPr b="0" lang="en-US" sz="4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151920" y="1143000"/>
            <a:ext cx="89917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000" spc="-1" strike="noStrike">
                <a:solidFill>
                  <a:srgbClr val="3e3d2d"/>
                </a:solidFill>
                <a:latin typeface="Arial Black"/>
              </a:rPr>
              <a:t>7. Elle _____ (boire) un coca</a:t>
            </a:r>
            <a:endParaRPr b="0" lang="en-US" sz="4000" spc="-1" strike="noStrike">
              <a:solidFill>
                <a:srgbClr val="3e3d2d"/>
              </a:solidFill>
              <a:latin typeface="Century Gothic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000" spc="-1" strike="noStrike">
                <a:solidFill>
                  <a:srgbClr val="3e3d2d"/>
                </a:solidFill>
                <a:latin typeface="Arial Black"/>
              </a:rPr>
              <a:t>8. Et elle _______(manger) des escargots.</a:t>
            </a:r>
            <a:endParaRPr b="0" lang="en-US" sz="4000" spc="-1" strike="noStrike">
              <a:solidFill>
                <a:srgbClr val="3e3d2d"/>
              </a:solidFill>
              <a:latin typeface="Century Gothic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000" spc="-1" strike="noStrike">
                <a:solidFill>
                  <a:srgbClr val="3e3d2d"/>
                </a:solidFill>
                <a:latin typeface="Arial Black"/>
              </a:rPr>
              <a:t>9. Mais elle ______(mourir)</a:t>
            </a:r>
            <a:endParaRPr b="0" lang="en-US" sz="4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3T00:08:49Z</dcterms:created>
  <dc:creator>Mr. Smith</dc:creator>
  <dc:description/>
  <dc:language>en-US</dc:language>
  <cp:lastModifiedBy>GREBERT,VIVIANE</cp:lastModifiedBy>
  <dcterms:modified xsi:type="dcterms:W3CDTF">2017-03-14T18:14:37Z</dcterms:modified>
  <cp:revision>138</cp:revision>
  <dc:subject/>
  <dc:title>Allez, viens! – Level 2</dc:title>
</cp:coreProperties>
</file>